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9311-C963-46C1-8E26-37F9D2FFC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9836-2E54-4BB9-A285-8B066B34E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citis</a:t>
            </a:r>
            <a:endParaRPr b="0" lang="en-US" sz="2400" spc="-1" strike="noStrike">
              <a:solidFill>
                <a:srgbClr val="000000"/>
              </a:solidFill>
              <a:latin typeface="Arial"/>
            </a:endParaRPr>
          </a:p>
        </p:txBody>
      </p:sp>
      <p:sp>
        <p:nvSpPr>
          <p:cNvPr id="4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is inflammation of the appendix, a worm-like outpouching of the cecum (the beginning of the large intestine or colon) which is several inches in length. It is located in the lower right portion of the abdomen. Although the appendix does not seem to serve any purpose, it can still become diseased. If untreated, an inflamed appendix can burst , causing infection and even death. About 1 in 500 people has appendicitis each year. It is more common in males than in females and the incidence is highest in teenagers and people in their early twenti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may occur after a viral infection in the digestive tract or when the tube connecting the large intestine and appendix is blocked by trapped stoo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5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c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p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bilic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us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enter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x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ectom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53"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the diseased appendix is left untre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ich cases may appendicitis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ymptom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as the infection wors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an accurate diagnosis of appendicitis challen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onditions may mimic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ymptoms of appendicitis take laxatives or 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uch symptoms take pain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eople lead a normal life without their appendix?</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plural form for the following nouns:</a:t>
            </a:r>
            <a:endParaRPr b="0" lang="en-US" sz="2400" spc="-1" strike="noStrike">
              <a:solidFill>
                <a:srgbClr val="000000"/>
              </a:solidFill>
              <a:latin typeface="Arial"/>
            </a:endParaRPr>
          </a:p>
        </p:txBody>
      </p:sp>
      <p:sp>
        <p:nvSpPr>
          <p:cNvPr id="55"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ch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men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rd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Present Perfect or Past Perfect Tense:</a:t>
            </a:r>
            <a:endParaRPr b="0" lang="en-US" sz="2400" spc="-1" strike="noStrike">
              <a:solidFill>
                <a:srgbClr val="000000"/>
              </a:solidFill>
              <a:latin typeface="Arial"/>
            </a:endParaRPr>
          </a:p>
        </p:txBody>
      </p:sp>
      <p:sp>
        <p:nvSpPr>
          <p:cNvPr id="5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riend (give up) smoking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octor (tell) her the news, she (go) home satis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 arrived at the faculty, the lectures (begin) alrea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n’t do this exercise as well as they (do) it up to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nths now, we (meet) no one except John and his colleag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teacher was sure that he (give) the right ad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tudents (pass) already all their exams in this semes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e (read) half of the book, he said he didn’t like it.</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a:t>
            </a:r>
            <a:endParaRPr b="0" lang="en-US" sz="2400" spc="-1" strike="noStrike">
              <a:solidFill>
                <a:srgbClr val="000000"/>
              </a:solidFill>
              <a:latin typeface="Arial"/>
            </a:endParaRPr>
          </a:p>
        </p:txBody>
      </p:sp>
      <p:sp>
        <p:nvSpPr>
          <p:cNvPr id="5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e began vomiting, 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ould consult the doctor for sure if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nosis will not be easy unless the pat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ppendix ruptures, s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ppendectomy were not performed, h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6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and cause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4T09:36:49Z</dcterms:modified>
  <cp:revision>22</cp:revision>
  <dc:subject/>
  <dc:title>Slide 1</dc:title>
</cp:coreProperties>
</file>